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187-2154-4FF8-A1B6-658D5E02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AD1-5F4E-4361-A359-29C5F859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00D-DC06-4475-90D5-DEBFD7DD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57F-8CFB-40F5-9B39-6471922F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DEF-FD7C-4905-9E72-E9A34C27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8D1-D471-4DE8-A193-02529BA6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09F-95C2-415D-8DD6-DA1105B9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EBE-E0B9-4F50-9895-509950A5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428-F9F9-4BBF-99B1-328B51A7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A78-02FE-4348-BFB8-125AFE4F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A6A-1219-4E6F-97BD-A3446243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728-7A96-4BC4-A264-9A4A0BCB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A7BB-9174-4D35-A7BC-3A9D2550AB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19240"/>
            <a:ext cx="8915400" cy="45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unt 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意为“搜寻”、“寻找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’ve been hunting for you every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一直在到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ey are hunting for a house to l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正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寻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租的房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3:45:12Z</dcterms:created>
  <dc:creator>zhangjunguang</dc:creator>
  <dc:description/>
  <dc:language>en-US</dc:language>
  <cp:lastModifiedBy>zhangjunguang</cp:lastModifiedBy>
  <dcterms:modified xsi:type="dcterms:W3CDTF">2003-08-06T13:45:30Z</dcterms:modified>
  <cp:revision>1</cp:revision>
  <dc:subject/>
  <dc:title>PowerPoint 演示文稿</dc:title>
</cp:coreProperties>
</file>